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1FC-A112-4A60-A846-E16E8DDE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1A3-B5D5-4D8B-A6E0-820E4F6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468-2205-41C6-A96E-563BE982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222-1337-40FF-8C14-73129952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D98-D556-4B77-938F-C585F77C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31D-C15E-44E5-944E-DAD5439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71E-2814-43E7-A3EB-2A8EE561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5E1-28FF-4288-A470-7B26F370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A25-4202-456C-9758-61AF99AA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146-9F9D-4013-91F9-45729739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B09-D31B-4C56-AF98-7CCE8C1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525-10E3-4598-B936-93B5732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A3A-455C-4DF5-BB0D-0E6FE45A94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efa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INFORME  Nº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 Imagen" descr="Certificaciones de Licenciados en Administración.tif"/>
          <p:cNvPicPr/>
          <p:nvPr/>
        </p:nvPicPr>
        <p:blipFill>
          <a:blip r:embed="rId1"/>
          <a:stretch/>
        </p:blipFill>
        <p:spPr>
          <a:xfrm>
            <a:off x="2916360" y="1557360"/>
            <a:ext cx="388764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ESTUDIOS DE EVALUACIÓN EMPRESA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CUMPLIMIENTO DE REQUERIMIENTOS RESOLUCIÓN I.G.J. 6/200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8fa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UMAR LEY 261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OLUCIÓN ACUMAR 98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ES SOBRE ANÁLISIS, DISEÑO E IMPLEMENTACIÓN DE MEDIOS DE PROCESAMIE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a6f0f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E SOBRE SISTEMAS DE INFORMACIÓN Y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MÉTODOS Y PROCEDIMIENTOS ADMINISTRATI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E SOBRE INVESTIGACIÓN Y EVALUACIÓN DE MERCADO Y COMERCIALIZACIÓN NACIONAL 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E SOBRE PRESENTACIÓN DE OFERTAS EN LICITACIONES NACIONALES E INTERN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E DESTINADO A LA TOMA DE DECISIONES EN MATERIA DE IMPORTACIÓN, EXPORTACIÓN O TERCERIZ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E SOBRE CONSTITUCIÓN DE EMPRESAS, INSTITUCIONES, CLUSTERS, RELACIONADOS POR UN MERCADO O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E SOBRE EVALUACIÓN DE LA PRODUCCIÓN, COSTOS Y POLITICA DE INVENTARIO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Arial Black"/>
              </a:rPr>
              <a:t>TRABAJO</a:t>
            </a:r>
            <a:r>
              <a:rPr b="0" lang="es-E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9999"/>
                </a:solidFill>
                <a:latin typeface="Arial Black"/>
              </a:rPr>
              <a:t>ELABORAD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9999"/>
                </a:solidFill>
                <a:latin typeface="Arial Black"/>
              </a:rPr>
              <a:t>POR</a:t>
            </a:r>
            <a:r>
              <a:rPr b="0" lang="es-ES" sz="4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L.A. RAFAELA CUPP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L.A. AGUSTIN N. BACIGAL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DISEÑO, ANÁLISIS E IMPLEMENTACIÓN DE SISTEMAS DE PLANEAMIENTO, ORGANIZACIÓN, COORDINACIÓN 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LA ESTRUCTURA Y FUNCIONES DE LA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RECURSOS HUMANOS, SISTEMAS DE REMUNERACIONES Y OTROS ASPECTOS VINCULADOS AL FACTOR HUMANO DE LA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SOBRE DIRECCIÓN Y ADMINISTRACIÓN ECONÓMICA FINANCI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FORME ESPECIAL DE CONTROL DE GESTIÓN PARA CONSORCIOS DE PROPIEDAD HORIZONTAL LEY 135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solidFill>
            <a:srgbClr val="b3e8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LUSIONES Y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PROPUESTAS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-16844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SU ASIS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gohome_bicentenario"/>
          <p:cNvPicPr/>
          <p:nvPr/>
        </p:nvPicPr>
        <p:blipFill>
          <a:blip r:embed="rId1"/>
          <a:stretch/>
        </p:blipFill>
        <p:spPr>
          <a:xfrm>
            <a:off x="1908000" y="4653000"/>
            <a:ext cx="5410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SENTADO EN LA COMISIÓN DE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CTUACIÓN PROFESIONAL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LO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CENCIADOS EN ADMINISTR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 A.P.L.A.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INCUMBENCIAS DE LOS PROFESIONALES LICENCIADOS EN ADMINIST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f5a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NORMAS LEG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 20488 DE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 466 DEL C.A.B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ORMAS MÍNIMAS SUGERIDAS SOBRE INFORMES DE LOS LICENCIADOS EN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ISTEMAS, MÉTODOS Y PROCESOS ADMINIST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LANEAMIENTO Y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DMINISTRACIÓN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FORMES A EMITIR SOBRE LAS ÁREAS TRATADAS EN LOS HONORARIOS MÍNIMOS SUGERIDOS PARA LOS LICENCIADOS EN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DEL INFO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DESTINA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ÁREAS AN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NORMAS APLICADAS EN EL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OPINIÓN, RECOMENDACIONES Y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LUGAR Y FECHA DE E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FIRMA  DEL  L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S DE INFOR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E EMITIDO COMO   COADMINISTRADOR JUDICIAL DESIGNADO EN UN PROCESO CONCU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4:16:14Z</dcterms:created>
  <dc:creator>CPCECABA</dc:creator>
  <dc:description/>
  <dc:language>en-US</dc:language>
  <cp:lastModifiedBy>CPCEACABA</cp:lastModifiedBy>
  <dcterms:modified xsi:type="dcterms:W3CDTF">2010-08-13T17:34:22Z</dcterms:modified>
  <cp:revision>68</cp:revision>
  <dc:subject/>
  <dc:title>INCUMBENCIAS DE LOS PROFESIONALES EN CIENCIAS ECONÓMICAS.</dc:title>
</cp:coreProperties>
</file>